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DBE-406D-40CB-9FE1-6882671A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6B3-7584-4B6F-B963-4D5A3FF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DC1-E2E2-459B-94AB-BE431A9C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67E-B380-4BCE-B50C-A3A12C76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CE3-3668-415C-84BD-566066D7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885-3362-46EE-BB41-DEA5249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147-0F13-48F2-B0B5-095700D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3FF-E85F-4961-A639-ADD578C5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F13-7600-4E31-B116-DE4DD84F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B6A-7513-46C5-8A8F-F2C4FE7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949-361C-484A-8C1C-E8859E02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EE7-4CE7-4BF4-902E-2AC63D1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A235E-C0C9-4B01-A572-A2086DF6AC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A8829-13DE-4E67-8939-1432BE2CC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Triples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 Ly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WG Semantic Web Sub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IP Semantic Web Cl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 with and demonstrate link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odder for ESIP semantic web test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 simple, real project for hands-on ESIP tuto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basic semantic web to H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“database” of who’s doing what with what (and 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simple ontology of Projects, People, Datasets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e with ACCESS, MEaSUREs and similar project instance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e triples in ESIP Testbed triple s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ESIP_Project.png"/>
          <p:cNvPicPr/>
          <p:nvPr/>
        </p:nvPicPr>
        <p:blipFill>
          <a:blip r:embed="rId1"/>
          <a:stretch/>
        </p:blipFill>
        <p:spPr>
          <a:xfrm>
            <a:off x="457200" y="1881360"/>
            <a:ext cx="822960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nstance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ESIP_Project_Instances.jpg"/>
          <p:cNvPicPr/>
          <p:nvPr/>
        </p:nvPicPr>
        <p:blipFill>
          <a:blip r:embed="rId1"/>
          <a:srcRect l="0" t="-20515" r="0" b="-2051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Triples Workshop at ESIP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as linked data (RDF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 into ESIP triple st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nd federate Dataset triples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Us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te with Hook’s technology funding gap ont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in with Petr’s detailed project ont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3:31:43Z</dcterms:created>
  <dc:creator>Christopher Lynnes</dc:creator>
  <dc:description/>
  <dc:language>en-US</dc:language>
  <cp:lastModifiedBy>Peter Fox</cp:lastModifiedBy>
  <dcterms:modified xsi:type="dcterms:W3CDTF">2010-11-22T20:14:00Z</dcterms:modified>
  <cp:revision>12</cp:revision>
  <dc:subject/>
  <dc:title>Triples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391D0FAB35F459D823C07D2CD732B</vt:lpwstr>
  </property>
</Properties>
</file>